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gif" ContentType="image/gif"/>
  <Override PartName="/ppt/media/image4.gif" ContentType="image/gif"/>
  <Override PartName="/ppt/media/image5.gif" ContentType="image/gif"/>
  <Override PartName="/ppt/media/image6.gif" ContentType="image/gi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2C71-9869-47A8-90BF-7547B63939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0C14B-1289-4492-A2C9-D85DF2F08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CC739-F617-4B06-8F79-7769DD3F7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F1D9CF-FA2C-4182-9D36-3D5F4B61A3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8C7E64-8CE4-4FFB-AC75-E8ABE1F1E2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A27813-6C2F-47EC-8AE9-927F7F7310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BBD86D-3370-4CA9-BDFA-2D0513CBE5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5FBC65-3F30-45C6-B44C-9D6191054A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20562F-C6DB-450D-A10C-FD4D75221D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12A28C-3D16-433E-AE19-B88BDB277C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6514CF-1313-4D6C-843C-F2E59D2C80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435120-2349-41E6-BA8B-8F22AB213D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194B108-6F7C-4378-B25E-B27DEB96103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236B1-8609-469D-A78B-44192D159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A7A25F-B440-476A-B0E9-A6DE9D229A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647A72-2E66-4540-A289-D062EB494E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245F49-487F-4C05-AD6A-5A476109B1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6B6AB0-2065-4EAC-BD83-4CEE1AD3AA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46084A-0FF8-492E-B6D5-BACD2FF4CE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6A5671-02B6-4A7C-9E39-3513DD3212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9D0F44-B140-489A-9178-FE0013DBCB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023C95-0009-42BE-9289-AD13F295CC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EDD1EC-0B33-4396-A299-15F21E25AF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1B9B410-6F1A-4FDC-9FC2-EB68963AC41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D07EA-97C7-4F8D-A4CE-CEB5C0AAA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F44293D-10FF-4AB2-9FDE-5A89FCE80DB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439849B-B811-4D65-913A-C9BF45C9AB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C69647-C6C0-457B-9BCC-3DB87C18A6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EA6D79-6724-461D-829C-B7F04317A1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356B47-95F7-4FA9-9985-15B2E5D20D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818DE6-91A4-4ABC-AFD4-560607315B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72474C-7181-40C7-A9F7-C9B5DFACAB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48C211-6AD0-415B-8D88-CBF402FCC9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CD8070-C002-4967-B09B-EC66AD3E21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B5092A-E469-45E1-97F5-B24EA0FF58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F9CB2E-4E3B-4F1C-9C44-F8D78674B1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D91204-BDF7-4C41-A5F2-26B52BE1EA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7FFB53-F177-4BDB-AEAB-FDBB7D9EF47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BA609C-F165-4A01-8D8C-4ADB6F64669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C091D93-0144-4908-B98B-F879B206DAF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34E213-9D26-4B8E-BC5B-DC687303B4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7176D3-1EBF-42E7-9570-B2E638D73E3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B92FAF-75AB-4F10-A81B-C40426743E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C9FD08-6CD5-42FF-8BEA-8C5325341A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347417-00F7-40A8-83F1-9E0DB1628E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938702-EC39-4DAF-B577-4F9E41E38D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1AE22-C6A7-469B-B657-732FB8024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B29D74-2CDE-416D-B44A-61EE0DD7AF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C3C9F8-0A3D-407E-897F-6E4E187A32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F210C7-7865-4CEB-B614-D8F2501894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AB1FCC0-EA99-49B0-94D8-BD7D3BC7C04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3B8A49B-3895-4BE7-B6CA-54027872500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93A74-A0F0-4A6D-B409-CFE20AF12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3ADD6-0936-4F7E-A4C8-0BE7285D7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9EA07-A6C5-4915-8B6E-01E592DE7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D6073-EFFA-4605-9437-7CA587B53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5B22F-EB46-4A66-86B9-693EDDB44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783AE-81B1-4D76-9B78-F3A1FFC8A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31945-2E43-46C5-B8DD-25B01B414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541A9-5A88-4A65-BE8F-040AC78B4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DC3A5-E908-4FDD-BCB8-D9181CB43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2BBBC-F760-422F-AFD7-1289A6176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73B32-4BD2-4EF5-9717-AC4D974567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46647D-3FF0-4AEC-B976-F06B021B41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338BBE-4B38-4A49-A721-4B53CFE4C5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19FB08-3397-447A-BEF6-7FF61695E9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4BC1CC-F283-406A-BFD3-6FE80B5E8F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1895D3-4D8E-4A7A-B5FE-AE81FC90B3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C1F9E-455F-49AC-9ACE-7AA8BEB7F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08E3A5-2B05-4225-8D02-FDF5D95FAE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322A65-2142-4E16-B3B1-B4E1AD1870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008EF-F18D-4EBD-8D8E-A900399E2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C28B03-851B-411A-843E-68F3E566C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A679F7-3D37-4FD9-BE6A-767C46D26A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BC694E-AE7A-4362-9549-77588EC967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9D66B8-34BF-447E-84CE-A4B693691F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F8484D-247E-47BA-AB13-064A4FC1BC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DEBD90-55F2-4D35-BAF0-D92E3E1846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6F3A78-56A0-4AF4-8C75-4ED8DE2683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7C285-8BDB-431A-973E-B1E0FD64F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27542F-AA4B-43E9-8468-685510DE8A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4EDCD5-65CC-4763-B38C-937A53D70A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3B200A-B86D-4A85-A8F0-D14C7DA287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CBEC01-894E-4821-8CFE-03F988734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CC1F34-6CD8-495B-A3D3-7EB63293E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3984E1-435E-4DCE-8BA9-ADC04AC7A9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A1757E-0F10-41CC-B200-D85EDD3329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61A8A4-A45B-4BE7-9951-8ED8F2C625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B445A5-0327-4C1B-A45A-E266BDB625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29E69C-51DE-4BCB-B4AB-5C14101D98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D54BA-3A12-44F4-B9E1-8BC1FC37D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5ABD08-F9C3-4B13-BE6D-333E9C18BD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A00E44-237E-41D9-B003-E55E13800C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B68B6D-AC85-48B6-B1B2-F81AF5F4B0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EE9336-BCE1-47C4-AD26-B73AD5720D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8FE03E-3A8D-44D0-B998-6EF02A0358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78996E-E9CA-4176-8914-E0A2FA1D9B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11FCF1-5176-4500-858E-927ACD628C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4D90FC-C48A-486D-A5E4-0F83495813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7CDF7E-DCD7-410F-8C8B-C706F26537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C165D2-9409-46FA-A199-1DE36BF3FF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E3994-0B20-41A1-98FD-BDB154CC1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07C941-3647-449A-9FC2-65AAA2D3EF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44FDE7-994B-415A-896C-7E6BA6091E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B69B06-08C3-427C-B59E-9C19A4DCCA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EFE6F8-FD05-4650-87E0-00FFEC19BE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9E7A54-B070-484E-8B12-770A1E3076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5EF034-B7DF-4015-A4D6-4777DAC0AE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FF5FC1-29C7-4F53-9678-59031EAE9B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ED44BB-73CE-42E6-92E8-761DB28691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FFDF99-2E85-4C50-B2BD-8D9655DC39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D7241F-B639-43D8-B81F-B4E6381FF0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77068-2DDE-4564-995C-22FF2E35D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D2F585-A448-4337-9AFA-A201FFE708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6FACD1-9601-4BB7-88C9-F12CC29147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C8EC88-C03E-49DA-A513-159FDF481D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9C6586-A0FD-454D-8D80-CF48518080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3E8AB0-2196-46A8-82DE-A9A6973DBE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04D6AC-C90D-43A6-993D-321D7A4441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C1BAE9-E68F-4E12-9FDE-A5465FDABF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080814-1C18-412B-8F69-943259A100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549772-A8EE-417E-B8E0-0AC6EB5B5B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7FF25D-4544-4499-BE31-CCFEBFCE4E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7924B-28B7-402D-B480-B68B37152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397C5A-B036-4F20-AA80-95C8CC9501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58083A-290B-4A79-A587-713E412FAE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E7F9DB-5EBE-45C9-91FE-43CF217BBE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AB1141-D981-409C-85DD-415EAEF306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747794-3A50-4645-9DD5-401CDFE666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5C8069-F7BB-4A84-8EEE-2E796EBE41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49716B-5CC9-4738-8592-1A3931C4CD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65013D-7E91-4838-BD42-E7D588B5DD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A14EC7-40C8-4556-8454-0454A685C7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3B18DB-2DE0-4EF0-902E-FAF1960E70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B9D21-B164-4483-A37C-1BCE62B21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F7EA94-F88A-4605-8CAB-9DB8F7FA0C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3BB7B1-684F-4425-92FF-1AE8C4D578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A716F3-4FDE-47E3-A2E2-EB74761F0E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0A2A69-C744-48F6-BBD3-3427D49AB4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D313CD-EF0F-477F-B443-311742BB90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887CB7-51CC-4464-9394-B6B0739A9A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CF3E17-4D39-486A-A249-FF335CDBEF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8F83E4-DD8D-4AB1-9E51-4CEB5E2CA1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893A0A-605B-4E92-AD26-759D88BDF8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26EE04-C6DD-45A9-A66A-FC688DCA8F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C181-E529-4537-A987-4D1CB9DAF2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0B29-4CCA-4BC0-84E3-8E3AA3B2CA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E3942-31B4-4B2C-A846-78DF0D8B2F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18F9-FBE4-49D9-ABA2-09500C2851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CC17-C4E4-481F-8C3A-04B016AD2B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3F30-3DCD-4B2E-986C-39B04E8288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52729-45AF-489C-8CA3-9224261B9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D92C-86F6-4912-9FCF-ABBC5E20F5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34C8-50EE-4DB1-8D2E-DFE414300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751B-AEDF-45BD-8FAD-31BAB3CC95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C047-563D-47B5-9D5F-CBA882FF52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B671-4D5B-4C37-A9FD-04C85D21A7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chevroncars.com/learn/img-old/i0450-1.gif&amp;imgrefurl=http://www.chevroncars.com/learn/category/holidays-seasons/page/2/&amp;h=160&amp;w=190&amp;sz=23&amp;hl=en&amp;start=484&amp;um=1&amp;tbnid=N1AKmaskgq0VQM:&amp;tbnh=87&amp;tbnw=103&amp;prev=/images%3Fq%3Dkwanzaa%26start%3D480%26gbv%3D2%26ndsp%3D20%26svnum%3D10%26um%3D1%26hl%3Den%26safe%3Dactive%26sa%3DN"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path path="rect">
            <a:fillToRect l="50000" t="50000" r="50000" b="50000"/>
          </a:path>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Papyrus"/>
              </a:rPr>
              <a:t>Kwanzaa</a:t>
            </a:r>
            <a:endParaRPr b="0" lang="en-US" sz="8800" spc="-1" strike="noStrike">
              <a:solidFill>
                <a:srgbClr val="000000"/>
              </a:solidFill>
              <a:latin typeface="Times New Roman"/>
            </a:endParaRPr>
          </a:p>
        </p:txBody>
      </p:sp>
      <p:sp>
        <p:nvSpPr>
          <p:cNvPr id="500" name="PlaceHolder 2"/>
          <p:cNvSpPr>
            <a:spLocks noGrp="1"/>
          </p:cNvSpPr>
          <p:nvPr>
            <p:ph type="subTitle"/>
          </p:nvPr>
        </p:nvSpPr>
        <p:spPr>
          <a:xfrm>
            <a:off x="1371600" y="4800600"/>
            <a:ext cx="6400800" cy="8380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Mr. Clutter</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Librarian</a:t>
            </a:r>
            <a:endParaRPr b="0" lang="en-US" sz="2400" spc="-1" strike="noStrike">
              <a:solidFill>
                <a:srgbClr val="000000"/>
              </a:solidFill>
              <a:latin typeface="Times New Roman"/>
            </a:endParaRPr>
          </a:p>
        </p:txBody>
      </p:sp>
      <p:pic>
        <p:nvPicPr>
          <p:cNvPr id="501" name="Picture 8" descr="i0450-1">
            <a:hlinkClick r:id="rId1"/>
          </p:cNvPr>
          <p:cNvPicPr/>
          <p:nvPr/>
        </p:nvPicPr>
        <p:blipFill>
          <a:blip r:embed="rId2"/>
          <a:stretch/>
        </p:blipFill>
        <p:spPr>
          <a:xfrm>
            <a:off x="3352680" y="387360"/>
            <a:ext cx="2514600" cy="2124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0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What is Kwanzaa?</a:t>
            </a:r>
            <a:endParaRPr b="0" lang="en-US" sz="4400" spc="-1" strike="noStrike">
              <a:solidFill>
                <a:srgbClr val="000000"/>
              </a:solidFill>
              <a:latin typeface="Times New Roman"/>
            </a:endParaRPr>
          </a:p>
        </p:txBody>
      </p:sp>
      <p:sp>
        <p:nvSpPr>
          <p:cNvPr id="503" name="PlaceHolder 2"/>
          <p:cNvSpPr>
            <a:spLocks noGrp="1"/>
          </p:cNvSpPr>
          <p:nvPr>
            <p:ph type="subTitle"/>
          </p:nvPr>
        </p:nvSpPr>
        <p:spPr>
          <a:xfrm>
            <a:off x="762120" y="1980720"/>
            <a:ext cx="761976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2400" spc="-1" strike="noStrike">
              <a:solidFill>
                <a:srgbClr val="000000"/>
              </a:solidFill>
              <a:latin typeface="Times New Roman"/>
            </a:endParaRPr>
          </a:p>
        </p:txBody>
      </p:sp>
      <p:pic>
        <p:nvPicPr>
          <p:cNvPr id="504" name="Picture 4" descr="kwanzaad3"/>
          <p:cNvPicPr/>
          <p:nvPr/>
        </p:nvPicPr>
        <p:blipFill>
          <a:blip r:embed="rId1"/>
          <a:stretch/>
        </p:blipFill>
        <p:spPr>
          <a:xfrm>
            <a:off x="3809880" y="5257800"/>
            <a:ext cx="914400" cy="1120680"/>
          </a:xfrm>
          <a:prstGeom prst="rect">
            <a:avLst/>
          </a:prstGeom>
          <a:ln w="0">
            <a:noFill/>
          </a:ln>
        </p:spPr>
      </p:pic>
      <p:pic>
        <p:nvPicPr>
          <p:cNvPr id="505" name="Picture 5" descr="kwanzaad2"/>
          <p:cNvPicPr/>
          <p:nvPr/>
        </p:nvPicPr>
        <p:blipFill>
          <a:blip r:embed="rId2"/>
          <a:stretch/>
        </p:blipFill>
        <p:spPr>
          <a:xfrm>
            <a:off x="2438280" y="5257800"/>
            <a:ext cx="914400" cy="1120680"/>
          </a:xfrm>
          <a:prstGeom prst="rect">
            <a:avLst/>
          </a:prstGeom>
          <a:ln w="0">
            <a:noFill/>
          </a:ln>
        </p:spPr>
      </p:pic>
      <p:pic>
        <p:nvPicPr>
          <p:cNvPr id="506" name="Picture 6" descr="kwanzaad1"/>
          <p:cNvPicPr/>
          <p:nvPr/>
        </p:nvPicPr>
        <p:blipFill>
          <a:blip r:embed="rId3"/>
          <a:stretch/>
        </p:blipFill>
        <p:spPr>
          <a:xfrm>
            <a:off x="5181480" y="5334120"/>
            <a:ext cx="914400" cy="11206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0000"/>
            </a:gs>
          </a:gsLst>
          <a:lin ang="27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ates</a:t>
            </a:r>
            <a:endParaRPr b="0" lang="en-US" sz="4400" spc="-1" strike="noStrike">
              <a:solidFill>
                <a:srgbClr val="000000"/>
              </a:solidFill>
              <a:latin typeface="Times New Roman"/>
            </a:endParaRPr>
          </a:p>
        </p:txBody>
      </p:sp>
      <p:sp>
        <p:nvSpPr>
          <p:cNvPr id="5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Kwanzaa is based on the nguzo saba (seven guiding principles) one for each day of the observance and is celebrated from December 26</a:t>
            </a:r>
            <a:r>
              <a:rPr b="0" lang="en-US" sz="3200" spc="-1" strike="noStrike" baseline="30000">
                <a:solidFill>
                  <a:srgbClr val="ffffff"/>
                </a:solidFill>
                <a:latin typeface="Papyrus"/>
              </a:rPr>
              <a:t>th</a:t>
            </a:r>
            <a:r>
              <a:rPr b="0" lang="en-US" sz="3200" spc="-1" strike="noStrike">
                <a:solidFill>
                  <a:srgbClr val="ffffff"/>
                </a:solidFill>
                <a:latin typeface="Papyrus"/>
              </a:rPr>
              <a:t> to January 1</a:t>
            </a:r>
            <a:r>
              <a:rPr b="0" lang="en-US" sz="3200" spc="-1" strike="noStrike" baseline="30000">
                <a:solidFill>
                  <a:srgbClr val="ffffff"/>
                </a:solidFill>
                <a:latin typeface="Papyrus"/>
              </a:rPr>
              <a:t>s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9" name="Picture 4" descr="kwanzaa1"/>
          <p:cNvPicPr/>
          <p:nvPr/>
        </p:nvPicPr>
        <p:blipFill>
          <a:blip r:embed="rId1"/>
          <a:stretch/>
        </p:blipFill>
        <p:spPr>
          <a:xfrm>
            <a:off x="3200400" y="4114800"/>
            <a:ext cx="3228840" cy="23684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2"/>
            </a:gs>
            <a:gs pos="100000">
              <a:srgbClr val="ff0000"/>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Gifts</a:t>
            </a:r>
            <a:br>
              <a:rPr sz="4400"/>
            </a:b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anchor="t">
            <a:normAutofit/>
          </a:bodyPr>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 </a:t>
            </a:r>
            <a:r>
              <a:rPr b="0" lang="en-US" sz="2800" spc="-1" strike="noStrike">
                <a:solidFill>
                  <a:srgbClr val="ffffff"/>
                </a:solidFill>
                <a:latin typeface="Papyrus"/>
              </a:rPr>
              <a:t>Kuumba(creativity)is greatly encouraged. Gifts are usually exchanged between parents and children and traditionally given on January 1</a:t>
            </a:r>
            <a:r>
              <a:rPr b="0" lang="en-US" sz="2800" spc="-1" strike="noStrike" baseline="30000">
                <a:solidFill>
                  <a:srgbClr val="ffffff"/>
                </a:solidFill>
                <a:latin typeface="Papyrus"/>
              </a:rPr>
              <a:t>st</a:t>
            </a:r>
            <a:r>
              <a:rPr b="0" lang="en-US" sz="2800" spc="-1" strike="noStrike">
                <a:solidFill>
                  <a:srgbClr val="ffffff"/>
                </a:solidFill>
                <a:latin typeface="Papyrus"/>
              </a:rPr>
              <a:t> the last day of Kwanzaa. However gift giving during Kwanzaa may occur at any time.</a:t>
            </a:r>
            <a:endParaRPr b="0" lang="en-US" sz="2800" spc="-1" strike="noStrike">
              <a:solidFill>
                <a:srgbClr val="000000"/>
              </a:solidFill>
              <a:latin typeface="Times New Roman"/>
            </a:endParaRPr>
          </a:p>
        </p:txBody>
      </p:sp>
      <p:pic>
        <p:nvPicPr>
          <p:cNvPr id="512" name="Picture 4" descr="lionlight1"/>
          <p:cNvPicPr/>
          <p:nvPr/>
        </p:nvPicPr>
        <p:blipFill>
          <a:blip r:embed="rId1"/>
          <a:stretch/>
        </p:blipFill>
        <p:spPr>
          <a:xfrm>
            <a:off x="685800" y="3809880"/>
            <a:ext cx="1752480" cy="14209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ecorating the home</a:t>
            </a: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3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80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The Kwanzaa feast or karamu</a:t>
            </a:r>
            <a:br>
              <a:rPr sz="4400"/>
            </a:br>
            <a:endParaRPr b="0" lang="en-US" sz="4400" spc="-1" strike="noStrike">
              <a:solidFill>
                <a:srgbClr val="000000"/>
              </a:solidFill>
              <a:latin typeface="Times New Roman"/>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Kwanzaa karumu is traditionally held on December 31</a:t>
            </a:r>
            <a:r>
              <a:rPr b="0" lang="en-US" sz="3200" spc="-1" strike="noStrike" baseline="30000">
                <a:solidFill>
                  <a:srgbClr val="ffffff"/>
                </a:solidFill>
                <a:latin typeface="Papyrus"/>
              </a:rPr>
              <a:t>st</a:t>
            </a:r>
            <a:r>
              <a:rPr b="0" lang="en-US" sz="3200" spc="-1" strike="noStrike">
                <a:solidFill>
                  <a:srgbClr val="ffffff"/>
                </a:solidFill>
                <a:latin typeface="Papyrus"/>
              </a:rPr>
              <a:t>. This is a very special event.  It is the one Kwanzaa event that brings the African American people closer to our African roots.</a:t>
            </a:r>
            <a:endParaRPr b="0" lang="en-US" sz="3200" spc="-1" strike="noStrike">
              <a:solidFill>
                <a:srgbClr val="000000"/>
              </a:solidFill>
              <a:latin typeface="Times New Roman"/>
            </a:endParaRPr>
          </a:p>
        </p:txBody>
      </p:sp>
      <p:pic>
        <p:nvPicPr>
          <p:cNvPr id="517" name="Picture 8" descr="kwanzaa"/>
          <p:cNvPicPr/>
          <p:nvPr/>
        </p:nvPicPr>
        <p:blipFill>
          <a:blip r:embed="rId1"/>
          <a:stretch/>
        </p:blipFill>
        <p:spPr>
          <a:xfrm>
            <a:off x="3733920" y="4495680"/>
            <a:ext cx="1882800" cy="19144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10002"/>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7 principles</a:t>
            </a:r>
            <a:endParaRPr b="0" lang="en-US" sz="4400" spc="-1" strike="noStrike">
              <a:solidFill>
                <a:srgbClr val="000000"/>
              </a:solidFill>
              <a:latin typeface="Times New Roman"/>
            </a:endParaRPr>
          </a:p>
        </p:txBody>
      </p:sp>
      <p:sp>
        <p:nvSpPr>
          <p:cNvPr id="519" name="PlaceHolder 2"/>
          <p:cNvSpPr>
            <a:spLocks noGrp="1"/>
          </p:cNvSpPr>
          <p:nvPr>
            <p:ph/>
          </p:nvPr>
        </p:nvSpPr>
        <p:spPr>
          <a:xfrm>
            <a:off x="457200" y="2209320"/>
            <a:ext cx="7315200" cy="3962520"/>
          </a:xfrm>
          <a:prstGeom prst="rect">
            <a:avLst/>
          </a:prstGeom>
          <a:noFill/>
          <a:ln w="0">
            <a:noFill/>
          </a:ln>
        </p:spPr>
        <p:txBody>
          <a:bodyPr anchor="t">
            <a:normAutofit/>
          </a:bodyPr>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moja (oo-MOH-jah): Unity – Success starts with Unity.  Unity of family, community, nation and race.</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jichagulia (koo-jee-chah-goo-LEE-ah):  Self-determination – To be responsible for ourselves.  To create your own destin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ima (00-JEE-mah): Collective work and responsibility – To build and maintain your community together.  To work together  to help one another within your communit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amaa (oo-jah-MAH): Collective economics – to build, maintain, and support our own stores, establishments, and businesse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Nia (NEE-ah): Purpose – To restore African American people to their traditional greatness. To be responsible to our ancestors and to our descendant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umba (koo-OOM-bah): Creativity – Using creativity and imagination to make your communities better than what you inherited.</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Imani (ee-MAH-nee): Faith – Believing in our people, our families, our educators, our leaders, and the righteousness of the African American struggle.</a:t>
            </a:r>
            <a:endParaRPr b="0" lang="en-US" sz="1600" spc="-1" strike="noStrike">
              <a:solidFill>
                <a:srgbClr val="000000"/>
              </a:solidFill>
              <a:latin typeface="Times New Roman"/>
            </a:endParaRPr>
          </a:p>
        </p:txBody>
      </p:sp>
      <p:pic>
        <p:nvPicPr>
          <p:cNvPr id="520" name="Picture 7" descr="kwanzaa_family"/>
          <p:cNvPicPr/>
          <p:nvPr/>
        </p:nvPicPr>
        <p:blipFill>
          <a:blip r:embed="rId1"/>
          <a:stretch/>
        </p:blipFill>
        <p:spPr>
          <a:xfrm>
            <a:off x="5943600" y="380880"/>
            <a:ext cx="1657440" cy="167652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4:52:39Z</dcterms:created>
  <dc:creator>Mr. Clutter</dc:creator>
  <dc:description/>
  <cp:keywords>Kwanzaa celebration</cp:keywords>
  <dc:language>en-US</dc:language>
  <cp:lastModifiedBy>RomaK</cp:lastModifiedBy>
  <dcterms:modified xsi:type="dcterms:W3CDTF">2015-09-02T09:53:19Z</dcterms:modified>
  <cp:revision>16</cp:revision>
  <dc:subject>Kwanzaa celebration</dc:subject>
  <dc:title>Kwanzaa celebration</dc:title>
</cp:coreProperties>
</file>